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4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15.wmf" ContentType="image/x-wmf"/>
  <Override PartName="/ppt/media/image1.jpeg" ContentType="image/jpeg"/>
  <Override PartName="/ppt/media/image8.wmf" ContentType="image/x-wmf"/>
  <Override PartName="/ppt/media/image13.wmf" ContentType="image/x-wmf"/>
  <Override PartName="/ppt/media/image10.jpeg" ContentType="image/jpeg"/>
  <Override PartName="/ppt/media/image1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7DD4-9972-4DD8-B4B1-811CB07F6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5E5B-C4FD-42B8-B66D-573713E9D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DB00-5E17-42E2-B7F4-776FF333E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CE7C-201E-42DA-96A6-2650FE94D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52C4A-1FC8-44AA-82CA-15EF1A00D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3627F-027E-4DF8-80C0-21DBC05ED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81A33-46E0-45CB-8BA6-F51A18E9F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F9956-C3EF-4C51-AC7B-0F85D6E14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EEB19-2F9A-4F2B-A719-71F4A88AC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2A9CC-ED0E-4215-A829-BC16D0B43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61FE0-B213-40C3-A497-4393FDB6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ACFF-8E09-4B39-964B-1E64516D0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3CBBB-2378-4223-A28E-B58A0C16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E4177-B152-4118-B58F-C9E669D5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67BF6-FCEA-4B68-AFFC-4B98C252C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15E3E-29D7-4941-8F37-8F96A8F69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25D5A-389A-4E4D-900C-C20AA3D7F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989D-BDA6-4095-B1ED-2DF269F2F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251B-EEB5-4550-8F60-18F0E854B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D762-6BD9-4861-BEFD-E596C79F4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9F57-A480-4016-A7D3-6C3C099E2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FF9F-B58F-4D88-B0F0-91571B39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88E7-22E1-4C63-B35E-C8543FFB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D1F6-FAE3-4E12-86D3-FC1DE395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981080" y="533520"/>
            <a:ext cx="38124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0666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143000" y="685800"/>
            <a:ext cx="38088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362320" y="1522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99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" name="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sp>
          <p:nvSpPr>
            <p:cNvPr id="13" name=""/>
            <p:cNvSpPr/>
            <p:nvPr/>
          </p:nvSpPr>
          <p:spPr>
            <a:xfrm>
              <a:off x="0" y="2286000"/>
              <a:ext cx="533520" cy="533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33520" y="281916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49002-0AEF-4294-BBE0-788EAB1B6AB0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sp>
          <p:nvSpPr>
            <p:cNvPr id="20" name=""/>
            <p:cNvSpPr/>
            <p:nvPr/>
          </p:nvSpPr>
          <p:spPr>
            <a:xfrm>
              <a:off x="1981440" y="533520"/>
              <a:ext cx="38088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143000" y="685800"/>
              <a:ext cx="38124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64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71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4E3CE-CD4D-4415-92D7-992EF96D5931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sn00278a.wav" TargetMode="External"/><Relationship Id="rId3" Type="http://schemas.microsoft.com/office/2007/relationships/media" Target="file:///tmp/home/.config/libreoffice/4/user/gallery/sn00278a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429000" y="304920"/>
            <a:ext cx="5486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Tribal Child Support Enforcemen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33520" y="236196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9966"/>
                </a:solidFill>
                <a:latin typeface="Tahoma"/>
              </a:rPr>
              <a:t>Everything You Wanted to Know… </a:t>
            </a:r>
            <a:endParaRPr b="0" lang="en-US" sz="60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9966"/>
                </a:solidFill>
                <a:latin typeface="Tahoma"/>
              </a:rPr>
              <a:t>But Were Afraid to Ask</a:t>
            </a:r>
            <a:endParaRPr b="0" lang="en-US" sz="60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National Tribal Child Support Association</a:t>
            </a: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y Would We Want Federal Dollar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2590920"/>
            <a:ext cx="7315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expand or improve your program giving you IV-D statu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ving IV-D status provides opportunities for other resources such as Access and Visitation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ving IV-D status allows free exchange of information and ensures cooperation from other IV-D program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rect Federal Fund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y 2004, the Final Rule will be publish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your Tribe does not have a “comprehensive” program, the Rule will provide start-up costs to assist your Tribe in enhancing or establishing a Tribal Child Support Progra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705720" y="380880"/>
            <a:ext cx="1766880" cy="2210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2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regulations come with the funding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94920" y="2819520"/>
            <a:ext cx="7086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r program must be able to meet 5 primary mandat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ablishment of Patern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ablishment of Child Support Ord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forcement of Child Support Ord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dification of Child Support Ord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cation of Absent Par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2388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 Tribal Child Support Enforcement Program            is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NOT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just a Collection Agenc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42640" y="3733560"/>
            <a:ext cx="7086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are here to assist families with Tribal children to obtain and maintain self-sufficiency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provide information and education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provide quality customer servi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477120" y="457200"/>
            <a:ext cx="2411280" cy="2359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94920" y="12193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It’s for the Children…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343400" y="2362320"/>
            <a:ext cx="4114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ery child has a right to know who their father is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ery child has a right to be financially and emotionally supported by both pare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914400" y="2362320"/>
            <a:ext cx="3227400" cy="39621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240" y="91440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or More Information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ease attend the other workshops offered at this conferenc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Assessing Tribal Infrastructur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IV-A / IV-D Collabor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onference Binder contains a variety of useful informational handou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05120" y="1294920"/>
            <a:ext cx="4952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ntact Information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94920" y="23623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rry Sweet / Chickasaw N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80-310-600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tha Renville / Sisseton-Wahpet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605-698-713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mi Lorbecke / Chickasaw N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918-272-690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te Christnot / OC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02-401-484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6629400" y="457200"/>
            <a:ext cx="2286000" cy="2073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990360"/>
            <a:ext cx="7086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t’s All About the Children!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4343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ibal Child Support Programs assist families in obtaining and maintaining self-sufficiency through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ternity Establish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ablishment and Enforcement of child support ord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410080" y="2438280"/>
            <a:ext cx="2668680" cy="4191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228600" y="2362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609480" y="2895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8610480" y="3657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860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996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1996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25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52120" y="990360"/>
            <a:ext cx="58676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y Would You Want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Your Own Program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ibal children often do not receive adequate or fair child support services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ents often do not receive adequate or fair services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erating your own program allows Tribes to develop and enforce child support laws that reflect Tribal tradition and values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ibal child support programs are culturally sensitive and easily accessible to your tribal memb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010280" y="304920"/>
            <a:ext cx="1770120" cy="20574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5880" y="304560"/>
            <a:ext cx="28195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Benefit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7162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are many benefits to having your own Tribal Child Support Agency (TCSA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Benefit #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ternity Establishment ensures fathers are afforded legal righ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per paternity establishment helps to ensure proper enrollment of Tribal children for Tribes with blood quantum criteri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04920" y="4038480"/>
            <a:ext cx="1320840" cy="1832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9880" y="609480"/>
            <a:ext cx="5105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enefits (cont.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Benefit #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ibal Law can allow courts more authority and flexibility in how cases are handl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allows Tribes to develop creative solutions to circumstances that may be unique to their Tribe and Tribal member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28600" y="4572000"/>
            <a:ext cx="1855800" cy="18050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467480" y="609480"/>
            <a:ext cx="1447920" cy="1447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85840" y="609480"/>
            <a:ext cx="4876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enefits (cont.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Benefit # 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ibes have the authority to withhold from Tribal enterprises and/or per capita paymen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Benefit # 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reased financial responsibility of parents means less reliance on tribal program fin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486400" y="3352680"/>
            <a:ext cx="1633680" cy="1035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28600" y="5334120"/>
            <a:ext cx="1862280" cy="11811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521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Greatest Benefits are for the Children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600200" y="2285640"/>
            <a:ext cx="6781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ns and daughters will know who their father is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ldren will be assured their basic needs are me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children deserve to b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financially and emotionally     supported by both paren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1447920" cy="1600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248520" y="4511520"/>
            <a:ext cx="2666880" cy="23464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8610480" y="3733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304920" y="3429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5" dur="1542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3" dur="1860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99840" y="91440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unding Sourc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1905120"/>
            <a:ext cx="7467840" cy="459720"/>
          </a:xfrm>
          <a:prstGeom prst="rect">
            <a:avLst/>
          </a:prstGeom>
          <a:noFill/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artment of Health and Human Services (DHH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71600" y="2971800"/>
            <a:ext cx="7010280" cy="459720"/>
          </a:xfrm>
          <a:prstGeom prst="rect">
            <a:avLst/>
          </a:prstGeom>
          <a:noFill/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ministration for Children and Families (AC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4114800"/>
            <a:ext cx="6476760" cy="459720"/>
          </a:xfrm>
          <a:prstGeom prst="rect">
            <a:avLst/>
          </a:prstGeom>
          <a:noFill/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fice of Child Support Enforcement (OC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48320" y="25146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4832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502920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 the funding source for Tribal Child Support Enforcement progra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772400" y="4191120"/>
            <a:ext cx="1050840" cy="23889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304920" y="4191120"/>
            <a:ext cx="1050840" cy="23889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6172200" y="228600"/>
            <a:ext cx="66996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ow Does my Tribe Qualify for Funding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is direct Federal funding available under the Interim Rule if your Tribe is currently operating a comprehensive child support progra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tribe may join an already funded Tribe through a consortium arrangeme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ate Christnot</cp:lastModifiedBy>
  <dcterms:modified xsi:type="dcterms:W3CDTF">2003-11-10T19:52:53Z</dcterms:modified>
  <cp:revision>8</cp:revision>
  <dc:subject/>
  <dc:title>Tribal Child Support Enforcement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00740087</vt:r8>
  </property>
  <property fmtid="{D5CDD505-2E9C-101B-9397-08002B2CF9AE}" pid="3" name="_AuthorEmail">
    <vt:lpwstr>RBressie@dshs.wa.gov</vt:lpwstr>
  </property>
  <property fmtid="{D5CDD505-2E9C-101B-9397-08002B2CF9AE}" pid="4" name="_AuthorEmailDisplayName">
    <vt:lpwstr>Bressieux, Rene' (DSHS/DCS)</vt:lpwstr>
  </property>
  <property fmtid="{D5CDD505-2E9C-101B-9397-08002B2CF9AE}" pid="5" name="_EmailSubject">
    <vt:lpwstr>DCS Tribal Update 2/25/04</vt:lpwstr>
  </property>
  <property fmtid="{D5CDD505-2E9C-101B-9397-08002B2CF9AE}" pid="6" name="_PreviousAdHocReviewCycleID">
    <vt:r8>1769721493</vt:r8>
  </property>
</Properties>
</file>