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4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15.wmf" ContentType="image/x-wmf"/>
  <Override PartName="/ppt/media/image1.jpeg" ContentType="image/jpeg"/>
  <Override PartName="/ppt/media/image8.wmf" ContentType="image/x-wmf"/>
  <Override PartName="/ppt/media/image13.wmf" ContentType="image/x-wmf"/>
  <Override PartName="/ppt/media/image10.jpeg" ContentType="image/jpeg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2689-62E3-44A8-ABF8-F965C7CCC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308E-9D15-4F3C-A274-030D0522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2B6A-387F-4DBC-AACF-7869FA86D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4126-8403-4235-8CD6-98A702846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3CA5-3469-4923-9874-179DBEDDD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F1BAF-E3AD-4F6A-8C8C-83D10A5E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39CB-C66C-4208-ABEB-F0EF80F5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B75E-EB25-4545-86C8-DFC9EAE6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09FB5-1E71-4843-8BFB-7C8E4C02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FEFF-D77D-43E1-8126-A91175FA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3A926-E0AC-4017-9CFB-6E284E9B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2699-22F0-4559-878C-18824A47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479FA-6E47-4645-908E-AC22AE95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D20D-1478-4346-9B7D-A40CDEB4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B558-95DB-4556-B35C-236BE3F1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864F-0089-422D-BF2F-CAAF5146D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CF45-52DC-4DBF-B3EB-3CFB9391F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7570-B3F2-45A5-B414-7EF7D8F3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8A2D-85A2-4144-B2C9-84C8A9D2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B9E8-A378-49EA-B4A1-5DD77C39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A5FE-4584-456B-862F-4E9D4544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1AFA-228C-4ABB-9D6C-13A68FDC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0582-4807-4114-B256-39150BB7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9A3F-C11B-4DFF-A48F-8EB5145D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5295-F1AA-42AC-B6D5-AC7E0F77E466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4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1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80DF-8048-4806-BA55-B22DEDA30E6D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sn00278a.wav" TargetMode="External"/><Relationship Id="rId3" Type="http://schemas.microsoft.com/office/2007/relationships/media" Target="file:///tmp/home/.config/libreoffice/4/user/gallery/sn00278a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29000" y="304920"/>
            <a:ext cx="5486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ribal Child Support Enforcemen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33520" y="23619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9966"/>
                </a:solidFill>
                <a:latin typeface="Tahoma"/>
              </a:rPr>
              <a:t>Everything You Wanted to Know… </a:t>
            </a:r>
            <a:endParaRPr b="0" lang="en-US" sz="60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9966"/>
                </a:solidFill>
                <a:latin typeface="Tahoma"/>
              </a:rPr>
              <a:t>But Were Afraid to Ask</a:t>
            </a:r>
            <a:endParaRPr b="0" lang="en-US" sz="6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National Tribal Child Support Association</a:t>
            </a: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y Would We Want Federal Dollar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2590920"/>
            <a:ext cx="7315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expand or improve your program giving you IV-D statu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ving IV-D status provides opportunities for other resources such as Access and Visitation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ving IV-D status allows free exchange of information and ensures cooperation from other IV-D program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rect Federal Fund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2004, the Final Rule will be publish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your Tribe does not have a “comprehensive” program, the Rule will provide start-up costs to assist your Tribe in enhancing or establishing a Tribal Child Support Progra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705720" y="380880"/>
            <a:ext cx="1766880" cy="2210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2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regulations come with the funding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94920" y="2819520"/>
            <a:ext cx="7086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program must be able to meet 5 primary mandat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ablishment of Pater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ablishment of Child Support Ord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forcement of Child Support Ord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dification of Child Support Ord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cation of Absent Par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2388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 Tribal Child Support Enforcement Program            is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NOT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just a Collection Agenc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42640" y="3733560"/>
            <a:ext cx="7086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are here to assist families with Tribal children to obtain and maintain self-sufficiency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provide information and education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provide quality customer servi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477120" y="457200"/>
            <a:ext cx="2411280" cy="2359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94920" y="12193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It’s for the Children…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343400" y="2362320"/>
            <a:ext cx="4114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ry child has a right to know who their father is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ry child has a right to be financially and emotionally supported by both par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3227400" cy="3962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9144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r More Information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ease attend the other workshops offered at this conferenc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Assessing Tribal Infrastructur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IV-A / IV-D Collabo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onference Binder contains a variety of useful informational handou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05120" y="1294920"/>
            <a:ext cx="4952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ntact Information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94920" y="23623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rry Sweet / Chickasaw N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80-310-600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tha Renville / Sisseton-Wahpe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05-698-713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mi Lorbecke / Chickasaw N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918-272-690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te Christnot / OC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02-401-484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629400" y="457200"/>
            <a:ext cx="2286000" cy="2073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990360"/>
            <a:ext cx="7086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t’s All About the Children!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4343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bal Child Support Programs assist families in obtaining and maintaining self-sufficiency through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ternity Establish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ablishment and Enforcement of child support ord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410080" y="2438280"/>
            <a:ext cx="2668680" cy="4191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228600" y="2362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609480" y="2895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8610480" y="3657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860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996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1996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5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52120" y="990360"/>
            <a:ext cx="58676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y Would You Want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Your Own Program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bal children often do not receive adequate or fair child support service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ents often do not receive adequate or fair service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erating your own program allows Tribes to develop and enforce child support laws that reflect Tribal tradition and value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bal child support programs are culturally sensitive and easily accessible to your tribal memb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010280" y="304920"/>
            <a:ext cx="1770120" cy="2057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5880" y="304560"/>
            <a:ext cx="28195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Benefit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162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are many benefits to having your own Tribal Child Support Agency (TCSA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enefit #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ternity Establishment ensures fathers are afforded legal righ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per paternity establishment helps to ensure proper enrollment of Tribal children for Tribes with blood quantum criteri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04920" y="4038480"/>
            <a:ext cx="1320840" cy="1832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9880" y="609480"/>
            <a:ext cx="5105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enefits (cont.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enefit #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bal Law can allow courts more authority and flexibility in how cases are handl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allows Tribes to develop creative solutions to circumstances that may be unique to their Tribe and Tribal member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4572000"/>
            <a:ext cx="1855800" cy="1805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467480" y="60948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85840" y="609480"/>
            <a:ext cx="4876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enefits (cont.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enefit # 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bes have the authority to withhold from Tribal enterprises and/or per capita payme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enefit #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d financial responsibility of parents means less reliance on tribal program fi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486400" y="3352680"/>
            <a:ext cx="1633680" cy="1035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28600" y="5334120"/>
            <a:ext cx="1862280" cy="1181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521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Greatest Benefits are for the Children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00200" y="2285640"/>
            <a:ext cx="6781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ns and daughters will know who their father i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ldren will be assured their basic needs are me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children deserve to b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financially and emotionally     supported by both pare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1447920" cy="1600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248520" y="4511520"/>
            <a:ext cx="2666880" cy="2346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8610480" y="3733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304920" y="3429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1542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1860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99840" y="9144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unding Sourc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1905120"/>
            <a:ext cx="7467840" cy="459720"/>
          </a:xfrm>
          <a:prstGeom prst="rect">
            <a:avLst/>
          </a:prstGeom>
          <a:noFill/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artment of Health and Human Services (DHH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71600" y="2971800"/>
            <a:ext cx="7010280" cy="459720"/>
          </a:xfrm>
          <a:prstGeom prst="rect">
            <a:avLst/>
          </a:prstGeom>
          <a:noFill/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ministration for Children and Families (AC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4114800"/>
            <a:ext cx="6476760" cy="459720"/>
          </a:xfrm>
          <a:prstGeom prst="rect">
            <a:avLst/>
          </a:prstGeom>
          <a:noFill/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fice of Child Support Enforcement (OC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48320" y="25146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4832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502920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 the funding source for Tribal Child Support Enforcement progra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772400" y="4191120"/>
            <a:ext cx="1050840" cy="2388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04920" y="4191120"/>
            <a:ext cx="1050840" cy="23889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172200" y="228600"/>
            <a:ext cx="66996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ow Does my Tribe Qualify for Funding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is direct Federal funding available under the Interim Rule if your Tribe is currently operating a comprehensive child support progra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tribe may join an already funded Tribe through a consortium arrangem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te Christnot</cp:lastModifiedBy>
  <dcterms:modified xsi:type="dcterms:W3CDTF">2003-11-10T19:52:53Z</dcterms:modified>
  <cp:revision>8</cp:revision>
  <dc:subject/>
  <dc:title>Tribal Child Support Enforcement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00740087</vt:r8>
  </property>
  <property fmtid="{D5CDD505-2E9C-101B-9397-08002B2CF9AE}" pid="3" name="_AuthorEmail">
    <vt:lpwstr>RBressie@dshs.wa.gov</vt:lpwstr>
  </property>
  <property fmtid="{D5CDD505-2E9C-101B-9397-08002B2CF9AE}" pid="4" name="_AuthorEmailDisplayName">
    <vt:lpwstr>Bressieux, Rene' (DSHS/DCS)</vt:lpwstr>
  </property>
  <property fmtid="{D5CDD505-2E9C-101B-9397-08002B2CF9AE}" pid="5" name="_EmailSubject">
    <vt:lpwstr>DCS Tribal Update 2/25/04</vt:lpwstr>
  </property>
  <property fmtid="{D5CDD505-2E9C-101B-9397-08002B2CF9AE}" pid="6" name="_PreviousAdHocReviewCycleID">
    <vt:r8>1769721493</vt:r8>
  </property>
</Properties>
</file>