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EAC-B92B-4E19-866F-51888329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80DD-4463-40B7-97DB-8E69BBDC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B32-2C3C-459F-A9DC-98A40E7A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5EBF-5923-457B-919C-49FDE48A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5E54-F224-4A17-A4CE-5E569E10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BF88-AB51-42F6-A5C6-B77CA77D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AD18-8F66-43A1-88E0-F6246493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5328-9B05-4ACE-A29B-501EBA9D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E4DF-5F8D-4B25-96A8-5AC9A0E8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DB00-D18E-4B4E-A0F8-9180C9B8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5194-040E-4570-87F9-D26C83A5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697A-8890-4FE3-98BA-BB80F5F3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1573-15D2-40B4-9F92-2C06DDA6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CC77-06CB-4D05-A59A-885F2865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FC56-3B33-45EA-9EDB-14F1016A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568B-9E52-4103-A5E0-D5668E4D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BF81-B453-47B3-9FC1-747D2C2D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0DB9-C2D5-48D1-9B5E-4A81B733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A2D0-D6C9-4F13-BEDB-4D53C1BC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EEC-0262-41B6-8967-1A0CD43C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2F10-D671-49B9-B2F8-8E7B709C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7025-FFAA-44DD-A289-46B5D3E2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DF5-EA3F-41F6-BC47-39B1B30D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0B0-4CD4-4293-9AA4-2396059D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F3C7-6EFF-4372-8009-77C51050A7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875D-D984-4DDB-89B0-4514A57EEF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phbiava@acf.hhs.gov" TargetMode="External"/><Relationship Id="rId2" Type="http://schemas.openxmlformats.org/officeDocument/2006/relationships/hyperlink" Target="mailto:kchristnot@acf.hhs.gov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e Federal Tribal Child Support Program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n Up-Date from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Office of Child Support Enfor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4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d1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How are Tribal Child Support Programs Do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otal Support Collected FY02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ckasaw 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.2 mil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vajo 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.6 mil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yallup Tri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43,315.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ominee Tri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399,622.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seton-Wahpe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28,786.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 du Flambea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566,069.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 Gamble S’Klall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34,466.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Program Accomplishment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ickasaw Nation Consort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a transfer of 10,000 case from the State of OK; working on four additional agreements with Tribes to become part of the consortium; opened additional local offices to better serve the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sseton-Wahpeton Oy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reach and education to the community through program sponsored activities such as an open-house and family-day functions; entered into an agreement that helps the Tribe and State of SD to define their roles and more efficiently work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77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77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Program Accomplishment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vajo 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ed three additional offices to better serve the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yallup Tri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de significant improvements in cooperative relationships with the State of WA; hosted the National Tribal Child Support conference; enhanced communication with Tribal children services and foster-care to provide better services to tribal families; have begun working with the local State legal community to ensure tribal children are getting the best service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Program Accomplishment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c du Flambeau Tri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outreach to NCP's with a focus on supporting their needs through referrals to other Tribal programs; maintain a current employment vacancy list; implement procedures to intercept per captia payments for past-due support; regularly publish informational articles that educate the publ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rt Gamble S’Kallam Tri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an extensive Excel and Access-based program that tracks child support case, TANF referrals and financial records; began taking the necessary steps to prepare for transfer of cases from the state of WA to ensure children are getting the best child support services pos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ribal Systems Workgroup 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ipants included representatives from seven Tribal programs as well as systems experts from two States (NM and W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workgroup meetings were held in FY 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additional meetings will be held in FY 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ribal Systems WG Outcome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SE obtained a comprehensive understanding of the system needs of Trib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oup identified technology that may be appropriate and efficient for tribal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nts received training on the framework under which systems are develo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8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8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ribal Systems WG Outcome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umber of Tribal grantees have applied for and have received funding for preliminary systems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bal grantees have convened a joint steering committee for the ADP planning 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8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8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8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/S Cooperation Workgroup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ipants included representatives from seven Tribal programs and their State counter-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workgroup meetings were held in FY 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additional meetings will be held in FY 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/S Cooperation WG Outcome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kgroup identified areas where cooperation is necessary between Tribes and States for successful IV-D program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upon this effort, the workgroup drafted a “Guiding Principles” document for T/S cooperative relationships, as well as “best practic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kgroup identified T/S issues on performance measures and reporting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Status of The Final Rul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of 08/03 the Final Rule was signed by the Assistant Secretary for the Department of Health &amp; Human Services (H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nal Rule is currently with the Department for clea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n clearance by the Department, the Final Rule must be approved by the Office of Legislation and Budget (OLAB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SE expects the Final Rule to be published i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ril - June of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/S Cooperation WG Outcome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kgroup drafted a Tribal “Standard Referral Form” (currently under review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kgroup developed shared-definitions for Tribal and State IV-D program case proces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kgroup identified individual Tribal and State barriers (legal, political, systems, safe-guarding) that may prevent cooperative relations as well as possible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What is OCSE doing to assist and support Tribal IV-D Programs?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For Tribe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site-visits with Tribal Programs to identify any program issues and provide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cit input from Tribes and Tribal Programs on issues that may affect their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a specific Tribal Program information page on OCSE’s web-si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For State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 States by clarifying policy issues as they pertain to Tribal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training and education to States on Tribal program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ilitate and participate in T/S meetings that address issues significant to the IV-D progra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9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Resources: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SE, Division of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ige Biava, </a:t>
            </a:r>
            <a:r>
              <a:rPr b="0" lang="en-US" sz="3200" spc="-1" strike="noStrike" u="sng">
                <a:solidFill>
                  <a:srgbClr val="a50021"/>
                </a:solidFill>
                <a:uFillTx/>
                <a:latin typeface="Times New Roman"/>
                <a:hlinkClick r:id="rId1"/>
              </a:rPr>
              <a:t>phbiava@acf.hhs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SE, DOSS – Tribal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te Christnot, </a:t>
            </a:r>
            <a:r>
              <a:rPr b="0" lang="en-US" sz="3200" spc="-1" strike="noStrike" u="sng">
                <a:solidFill>
                  <a:srgbClr val="a50021"/>
                </a:solidFill>
                <a:uFillTx/>
                <a:latin typeface="Times New Roman"/>
                <a:hlinkClick r:id="rId2"/>
              </a:rPr>
              <a:t>kchristnot@acf.hhs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Tribal Child Support Assoc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www.supporttribalchildren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8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8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ribal IV-D Program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a26d18"/>
                </a:solidFill>
                <a:uFillTx/>
                <a:latin typeface="Times New Roman"/>
              </a:rPr>
              <a:t>Two New Tribal IV-D Programs</a:t>
            </a:r>
            <a:r>
              <a:rPr b="1" lang="en-US" sz="3200" spc="-1" strike="noStrike">
                <a:solidFill>
                  <a:srgbClr val="a26d18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mmi N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of Washing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st County Potawatomi Commu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of Wiscons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26d18"/>
                </a:solidFill>
                <a:latin typeface="Times New Roman"/>
              </a:rPr>
              <a:t>Tribes (by their location within a State) that have expressed interest:</a:t>
            </a: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isting Pro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Mexico/Ariz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lah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hing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th Dako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scon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s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for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th Dako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bras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neso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hig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th Carol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ssip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Legislative Proposals for FY 2003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Tribes direct access to Tax Offset and the Federal Parent Locator System (FP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unding to Tribal IV-D program for Access &amp; Visitation (A&amp;V)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 Tribes that receive direct-Federal funding for a IV-D program to intercept gaming winnings for past due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ax Offset and FPL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OCSE passed legislation that allowed State IV-D programs access to tax information and the FPLS, there were no tribal progra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SE has proposed legislation that would allow Tribal IV-D programs the same rights and access, as well as the responsibilities, of State IV-D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Access &amp; Visitation Funding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ing for Tribal programs for A&amp;V would come from a funding-stream that is independent of the state fu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posed base-amount is $10,000.00 and/or a ratio based upon “the number of minor child in a single parent househol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ormula fairly reflects the medium amount that states currently receive for A&amp;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bes will have the same flexibility as states in how they spend A&amp;V program dolla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Intercept of Gaming Winnings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Tribes with IV-D programs, and gaming establishments, will be required to intercept winnings for past-due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reshold amount for the past-due support intercept will coincide with the winning amounts that are currently subject to withholding for IRS/tax purpo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Gaming continued…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bal gaming establishments would be provided with a secure line through which they can access a child support debtor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bes that withhold, based upon an error in the information provided to the debtor database, would be held harmless from all legal repercuss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ecifics of this initiative have not been determined and OCSE plans to consult with Tribal IV-D programs to establish procedures for Tri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23:47:40Z</dcterms:created>
  <dc:creator>ACF</dc:creator>
  <dc:description/>
  <dc:language>en-US</dc:language>
  <cp:lastModifiedBy>Kate Christnot</cp:lastModifiedBy>
  <dcterms:modified xsi:type="dcterms:W3CDTF">2004-01-15T18:39:54Z</dcterms:modified>
  <cp:revision>9</cp:revision>
  <dc:subject/>
  <dc:title>The Federal Tribal Child Support Pro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98680857</vt:r8>
  </property>
  <property fmtid="{D5CDD505-2E9C-101B-9397-08002B2CF9AE}" pid="3" name="_AuthorEmail">
    <vt:lpwstr>RBressie@dshs.wa.gov</vt:lpwstr>
  </property>
  <property fmtid="{D5CDD505-2E9C-101B-9397-08002B2CF9AE}" pid="4" name="_AuthorEmailDisplayName">
    <vt:lpwstr>Bressieux, Rene' (DSHS/DCS)</vt:lpwstr>
  </property>
  <property fmtid="{D5CDD505-2E9C-101B-9397-08002B2CF9AE}" pid="5" name="_EmailSubject">
    <vt:lpwstr>DCS Tribal Update 2/25/04</vt:lpwstr>
  </property>
  <property fmtid="{D5CDD505-2E9C-101B-9397-08002B2CF9AE}" pid="6" name="_PreviousAdHocReviewCycleID">
    <vt:r8>1131934318</vt:r8>
  </property>
</Properties>
</file>