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1D5-7A95-4F1B-9970-DD0D4567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110-CD81-4A67-9678-A040DD5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5B4-E82B-4E70-8C12-ECB8B1DB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84F-DE02-41CF-AF96-F46EA826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932B-7ABE-4DCA-BD8C-9B14BFF3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44F2-0C49-49D5-8224-079BB1E3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6FF-860D-4CCD-B24D-2E52698A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672-A8F1-44C3-8951-F70C53A2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1CB-1655-4163-A486-D86AD65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3E4A-FEA1-45FB-8D2E-974A36A1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2F9-6397-4B81-B574-8824071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7E2-B836-481D-8584-CC5770A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52E1-2F05-4EFF-AA33-151DD0C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BD4B-6BAD-4512-8D3B-DE24B05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CB2E-65DE-4EFF-A703-8CD7E3F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BEB-6252-49B0-A2AD-6FC65AA7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14E-7DA7-4EE4-8CBE-BA79D599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2E1-100A-4C9C-84B9-07B0461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100-3F35-4220-BE51-C406F44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A43-C67A-45D5-B131-E506AD6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7E-E44A-4AB5-8D66-5A2B14C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D43-E344-40D9-9CB1-D0F4048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F12-3DC7-4A7A-B70D-813764D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D74-9538-4DDC-A75F-CB83D75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2029-951D-48EE-94E4-282C6FD05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E4C0-2CDD-4105-ACD9-C1C9BC333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hbiava@acf.hhs.gov" TargetMode="External"/><Relationship Id="rId2" Type="http://schemas.openxmlformats.org/officeDocument/2006/relationships/hyperlink" Target="mailto:kchristnot@acf.hhs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Federal Tribal Child Support Program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 Up-Date from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ffice of Child Support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d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How are Tribal Child Support Programs Do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tal Support Collected FY02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asaw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2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ajo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6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yallup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43,315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ominee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99,622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seton-Wahpe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28,786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 du Flambe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566,069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 Gamble S’Klall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4,466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ckasaw Nation Consort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a transfer of 10,000 case from the State of OK; working on four additional agreements with Tribes to become part of the consortium; opened additional local offices to better serve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sseton-Wahpeton Oy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each and education to the community through program sponsored activities such as an open-house and family-day functions; entered into an agreement that helps the Tribe and State of SD to define their roles and more efficiently work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vajo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hree additional offices to better serve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yallup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significant improvements in cooperative relationships with the State of WA; hosted the National Tribal Child Support conference; enhanced communication with Tribal children services and foster-care to provide better services to tribal families; have begun working with the local State legal community to ensure tribal children are getting the best service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c du Flambeau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outreach to NCP's with a focus on supporting their needs through referrals to other Tribal programs; maintain a current employment vacancy list; implement procedures to intercept per captia payments for past-due support; regularly publish informational articles that educate the pub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t Gamble S’Kallam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n extensive Excel and Access-based program that tracks child support case, TANF referrals and financial records; began taking the necessary steps to prepare for transfer of cases from the state of WA to ensure children are getting the best child support service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ribal Systems Workgroup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included representatives from seven Tribal programs as well as systems experts from two States (NM and W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workgroup meetings were held in FY 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additional meetings will be held in FY 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Systems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SE obtained a comprehensive understanding of the system needs of Trib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up identified technology that may be appropriate and efficient for trib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 received training on the framework under which systems are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Systems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of Tribal grantees have applied for and have received funding for preliminary systems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al grantees have convened a joint steering committee for the ADP planning 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/S Cooperation Workgroup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included representatives from seven Tribal programs and their State counter-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workgroup meetings were held in FY 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additional meetings will be held in FY 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/S Cooperation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group identified areas where cooperation is necessary between Tribes and States for successful IV-D progra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this effort, the workgroup drafted a “Guiding Principles” document for T/S cooperative relationships, as well as “best practic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group identified T/S issues on performance measures and report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tatus of The Final Rul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08/03 the Final Rule was signed by the Assistant Secretary for the Department of Health &amp; Human Services (H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l Rule is currently with the Department for cl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clearance by the Department, the Final Rule must be approved by the Office of Legislation and Budget (OLAB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SE expects the Final Rule to be published i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- June of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/S Cooperation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drafted a Tribal “Standard Referral Form” (currently under review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developed shared-definitions for Tribal and State IV-D program case proces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identified individual Tribal and State barriers (legal, political, systems, safe-guarding) that may prevent cooperative relations as well as possibl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What is OCSE doing to assist and support Tribal IV-D Programs?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or Trib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site-visits with Tribal Programs to identify any program issues and provide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 input from Tribes and Tribal Programs on issues that may affect thei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 specific Tribal Program information page on OCSE’s web-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or Stat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States by clarifying policy issues as they pertain to Tribal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and education to States on Tribal program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and participate in T/S meetings that address issues significant to the IV-D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9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sources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SE, Division of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ge Biava,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phbiava@acf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SE, DOSS – Tribal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te Christnot,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kchristnot@acf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Tribal Child Support Assoc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www.supporttribalchildren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IV-D Program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a26d18"/>
                </a:solidFill>
                <a:uFillTx/>
                <a:latin typeface="Times New Roman"/>
              </a:rPr>
              <a:t>Two New Tribal IV-D Programs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mi N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 County Potawatomi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Wiscon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6d18"/>
                </a:solidFill>
                <a:latin typeface="Times New Roman"/>
              </a:rPr>
              <a:t>Tribes (by their location within a State) that have expressed interest: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isting Pr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exico/Ariz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scon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ra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nes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ig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ssip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Legislative Proposals for FY 2003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Tribes direct access to Tax Offset and the Federal Parent Locator System (FP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unding to Tribal IV-D program for Access &amp; Visitation (A&amp;V)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 Tribes that receive direct-Federal funding for a IV-D program to intercept gaming winnings for past du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ax Offset and FPL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CSE passed legislation that allowed State IV-D programs access to tax information and the FPLS, there were no tribal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SE has proposed legislation that would allow Tribal IV-D programs the same rights and access, as well as the responsibilities, of State IV-D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 &amp; Visitation Fun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ing for Tribal programs for A&amp;V would come from a funding-stream that is independent of the state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base-amount is $10,000.00 and/or a ratio based upon “the number of minor child in a single parent househol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ula fairly reflects the medium amount that states currently receive for A&amp;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es will have the same flexibility as states in how they spend A&amp;V program doll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ntercept of Gaming Winning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ribes with IV-D programs, and gaming establishments, will be required to intercept winnings for past-du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shold amount for the past-due support intercept will coincide with the winning amounts that are currently subject to withholding for IRS/tax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aming continued…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al gaming establishments would be provided with a secure line through which they can access a child support debtor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es that withhold, based upon an error in the information provided to the debtor database, would be held harmless from all legal repercus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fics of this initiative have not been determined and OCSE plans to consult with Tribal IV-D programs to establish procedures for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23:47:40Z</dcterms:created>
  <dc:creator>ACF</dc:creator>
  <dc:description/>
  <dc:language>en-US</dc:language>
  <cp:lastModifiedBy>Kate Christnot</cp:lastModifiedBy>
  <dcterms:modified xsi:type="dcterms:W3CDTF">2004-01-15T18:39:54Z</dcterms:modified>
  <cp:revision>9</cp:revision>
  <dc:subject/>
  <dc:title>The Federal Tribal Child Support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98680857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131934318</vt:r8>
  </property>
</Properties>
</file>