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930E0-5522-40D2-8729-97181A452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DE20-E0A8-4802-8BDA-DCFA331E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D1C11-A356-4B26-A31D-A97EC95A7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3727-6A5D-434C-868D-B0508ECB8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05628-DE81-4076-8B8F-8917AEA6A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B5571-21DC-4F58-A1AB-5823E836C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D370A-DB68-43B4-B887-89A778F27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866FF-A029-47D2-A567-4609E6B34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8BE98-5C2E-4A82-897A-FAC0CB9E7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65DA9-0665-452E-9F58-8C52A40B6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BE33C-05A8-4C38-BA8B-A4B7B74F8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E178-1127-429B-B90B-99D6AD68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03E89-A868-4865-8D9B-D8F9B812E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D2762-FCA9-4540-BD58-FD1AAF2BB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1D9D6-1215-466A-A1B1-2DD188046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97971-2D11-4D56-9327-E1D210DED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24946-D668-4115-BC65-E75DBDF94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EB03-14AF-4F86-9FE3-D242EC76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C4948-9593-4809-8429-3703D456C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3A06-3D9C-4560-9B15-AD72F32F1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9BF88-0412-4611-AEFC-41DD0F915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BFA7-E583-4057-9C28-D0DC18C3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E405-0FA3-473C-AC03-AB7A9BEC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284AB-ACFD-4B80-8A07-0D7784D5F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1A9A-40BA-4353-8ADE-F6DFB1ED9D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3F66-18E2-4456-9A14-BFD9DBB115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troduction to the Tribal Child Support Enforcement Program</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tion 455(f) of the Social Security Act</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The Secretary may make direct payments under this part to an Indian Tribe or tribal organization that demonstrates to the satisfaction of the Secretary that it has the capacity to operate a child support enforcement program meeting the objectives of this par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including establishment of paternity, establishment, modification, and enforcement of support orders, and location of absent paren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The Secretary shall promulgate regulations establishing the requirements which must be met by an Indian tribe or tribal organization to be eligible for a grant under this section.</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45 CFR 301 Comprehensive Tribal CSE Programs</a:t>
            </a:r>
            <a:endParaRPr b="0" lang="en-US" sz="3600" spc="-1" strike="noStrike">
              <a:solidFill>
                <a:srgbClr val="f7d47d"/>
              </a:solidFill>
              <a:latin typeface="Arial"/>
            </a:endParaRPr>
          </a:p>
        </p:txBody>
      </p:sp>
      <p:sp>
        <p:nvSpPr>
          <p:cNvPr id="217" name="PlaceHolder 2"/>
          <p:cNvSpPr>
            <a:spLocks noGrp="1"/>
          </p:cNvSpPr>
          <p:nvPr>
            <p:ph/>
          </p:nvPr>
        </p:nvSpPr>
        <p:spPr>
          <a:xfrm>
            <a:off x="228600" y="1752120"/>
            <a:ext cx="7386480" cy="4497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interim final rule (published August 21, 2000) applies only to Tribes that currently operate comprehensive CSE programs.  It establishes requirements for direct federal funding under section 455(f) of the Ac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o is Eligible to Apply?</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 Indian Tribe meeting the requirements of the rule with at least 100 children under the age of majority  as defined by Tribal law or code, in the population subject to the jurisdiction of Tribal court or administrative agenc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1" name="PlaceHolder 2"/>
          <p:cNvSpPr>
            <a:spLocks noGrp="1"/>
          </p:cNvSpPr>
          <p:nvPr>
            <p:ph/>
          </p:nvPr>
        </p:nvSpPr>
        <p:spPr>
          <a:xfrm>
            <a:off x="304920" y="175212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application must includ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ption of the population subject to the jurisdiction of the Tribal cour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accepting all applications and providing appropriate CSE servic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that due process rights of individuals will be protected</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ministrative and management procedures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of safeguarding procedure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5" name="PlaceHolder 2"/>
          <p:cNvSpPr>
            <a:spLocks noGrp="1"/>
          </p:cNvSpPr>
          <p:nvPr>
            <p:ph/>
          </p:nvPr>
        </p:nvSpPr>
        <p:spPr>
          <a:xfrm>
            <a:off x="228600" y="175212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of maintenance of records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pies of Tribal laws and regulations applicable to child support enforcemen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location of noncustodial parent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7" name="PlaceHolder 2"/>
          <p:cNvSpPr>
            <a:spLocks noGrp="1"/>
          </p:cNvSpPr>
          <p:nvPr>
            <p:ph/>
          </p:nvPr>
        </p:nvSpPr>
        <p:spPr>
          <a:xfrm>
            <a:off x="228600" y="182844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establishment of paternity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uidelines for the establishment and modification of support obligation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income withholding</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distribution of child support collection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intergovernmental case processing</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sonable performance targe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hild support enforcement program is a joint partnership involving federal, state, tribal, and local cooperative effort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ibal CSE Program Funding</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unding is based on the application</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unding on an annual basi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ederal government provides 90% of the total approved budg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ibal CSE Program Funding</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ribes provide a 10% match</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re is a provision for a waiver of the 10% match</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ifferences between Tribal IV-D and State IV-D Requirements</a:t>
            </a:r>
            <a:endParaRPr b="0" lang="en-US" sz="32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tribal rule has provisions for in-kind payment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ternity is establishes by Tribal law, code, or custom</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ifferences between Tribal IV-D State IV-D Requirements</a:t>
            </a:r>
            <a:endParaRPr b="0" lang="en-US" sz="3200" spc="-1" strike="noStrike">
              <a:solidFill>
                <a:srgbClr val="f7d47d"/>
              </a:solidFill>
              <a:latin typeface="Arial"/>
            </a:endParaRPr>
          </a:p>
        </p:txBody>
      </p:sp>
      <p:sp>
        <p:nvSpPr>
          <p:cNvPr id="23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come is subject to withholding if the NCP is one month in arrear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r activities directly related to IV-D program activities, certain staff expenses are allowable:</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ribal Chief executives and their staff</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ribal Court judges and their staff</a:t>
            </a:r>
            <a:endParaRPr b="0" lang="en-US" sz="28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d47d"/>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ige Biava, Policy Specialist</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ministration for Children and Famili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ffice of Child Support Enforcement</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ivision of Polic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MAIL:  phbiava@acf.hhs.gov</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rogram Goals</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locate noncustodial parents, establish paternity, establish and enforce child support orders and collect child support payments from parents who are legally obligated to pay</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ensure that both parents financially support their childre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recover TANF expenditures</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uthorizing Legislation</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tle IV-D of the Social Security Ac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atute:  42 USC 651-669</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gulations:  45 CFR 301-310</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ersonal Responsibility and Work Opportunity Reconciliation Act of 1996 (PRWOR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hild support enforcement (CSE) program was established in 1975</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reated the federal CSE program</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d states to establish CSE office</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vided federal reimbursement</a:t>
            </a:r>
            <a:endParaRPr b="0" lang="en-US" sz="3200" spc="-1" strike="noStrike">
              <a:solidFill>
                <a:srgbClr val="2f1311"/>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ild Support Enforcement Amendments of 1984</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ndatory enforcement practices</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ederal financial participation and audit provisions</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erstate enforcement</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qual services for AFDC and Non-AFDC famili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amily Support Act of 1988</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uidelines for child support award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stablishment of paternit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ment for prompt state respons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ment for automated tracking and monitoring</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mnibus Budget Reconciliation Act of 1993 (OBRA)</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ncreased paternity establishment percentages</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tates had to adopt laws requiring civil procedures to voluntarily acknowledge paternity</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tates had to adopt laws requiring compliance regarding health insurance and employer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ersonal Responsibility and Work Opportunity Reconciliation Act of 1996</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gned into law August 22, 1996</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vision that directly affects Trib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Section 454(33) as amended by the Balanced Budget Act of 1997</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6:13:05Z</dcterms:created>
  <dc:creator>phbiava</dc:creator>
  <dc:description/>
  <dc:language>en-US</dc:language>
  <cp:lastModifiedBy>Kate Christnot</cp:lastModifiedBy>
  <dcterms:modified xsi:type="dcterms:W3CDTF">2004-01-15T16:11:13Z</dcterms:modified>
  <cp:revision>7</cp:revision>
  <dc:subject/>
  <dc:title>Introduction to Tribal Child Support Enforcement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41309432</vt:r8>
  </property>
  <property fmtid="{D5CDD505-2E9C-101B-9397-08002B2CF9AE}" pid="3" name="_AuthorEmail">
    <vt:lpwstr>RBressie@dshs.wa.gov</vt:lpwstr>
  </property>
  <property fmtid="{D5CDD505-2E9C-101B-9397-08002B2CF9AE}" pid="4" name="_AuthorEmailDisplayName">
    <vt:lpwstr>Bressieux, Rene' (DSHS/DCS)</vt:lpwstr>
  </property>
  <property fmtid="{D5CDD505-2E9C-101B-9397-08002B2CF9AE}" pid="5" name="_EmailSubject">
    <vt:lpwstr>DCS Tribal Update 2/25/04</vt:lpwstr>
  </property>
  <property fmtid="{D5CDD505-2E9C-101B-9397-08002B2CF9AE}" pid="6" name="_PreviousAdHocReviewCycleID">
    <vt:r8>-1103367756</vt:r8>
  </property>
</Properties>
</file>