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7CA46-955E-41EB-BCDD-5B6A17B35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E43EB-3566-4395-BE10-5AFFFE9FC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B8EF4-D5CE-4596-A54E-75BDED35C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83715-290A-4E42-94BD-7FAAB7CD5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CC7252-B03A-47CF-B064-FB18F9393D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DB34D-2E23-49C0-AD8A-9C58A4BCD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C632F-CC7B-4638-9DC1-4DBA79D14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C1010-6D19-4C57-9859-165554D7C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5BFE7-4D15-4CB4-AC79-04D9CB595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9EB8F-F3ED-4A09-9DB8-B9BF4E55B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18B97-BB6F-485D-B55F-47C09AB1F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3430F-5D0D-4E4E-8E8E-5975F150D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2D485-CB6F-4D47-89E7-81E055DDC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6A74F-6655-48CA-AF07-6E39B741F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3D0A7-97FB-4528-8361-EB5EC41CD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6653A9-0885-4EA2-B502-45A7BADBDF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C72691-A81B-46CF-9E7D-63CCFAA269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9E861-2D47-4A0F-A596-95BD8467D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9B9E3-8043-4C42-8CAD-BC75CBAF4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C01CF-F928-4DA0-834E-C4FEAFB5B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C57A2-DBD8-4908-A28D-1ADF930D4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611FD-9BF1-4C86-9E2A-D72F84F2C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7EC48-35FA-47C2-8ED3-410014AD9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1C423-58ED-4679-BEC7-428D955C0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6968B-4F82-460B-BA0A-3D7307D8429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D4CF-6BC7-48AA-8128-20D9FCDACAA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Introduction to the Tribal Child Support Enforcement Program</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egislative History of the Program</a:t>
            </a:r>
            <a:endParaRPr b="0" lang="en-US" sz="36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tion 455(f) of the Social Security Act</a:t>
            </a:r>
            <a:endParaRPr b="0" lang="en-US" sz="28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	</a:t>
            </a:r>
            <a:r>
              <a:rPr b="0" lang="en-US" sz="2800" spc="-1" strike="noStrike">
                <a:solidFill>
                  <a:srgbClr val="2f1311"/>
                </a:solidFill>
                <a:latin typeface="Arial"/>
              </a:rPr>
              <a:t>The Secretary may make direct payments under this part to an Indian Tribe or tribal organization that demonstrates to the satisfaction of the Secretary that it has the capacity to operate a child support enforcement program meeting the objectives of this par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egislative History of the Program</a:t>
            </a:r>
            <a:endParaRPr b="0" lang="en-US" sz="36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including establishment of paternity, establishment, modification, and enforcement of support orders, and location of absent parent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egislative History of the Program</a:t>
            </a:r>
            <a:endParaRPr b="0" lang="en-US" sz="36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The Secretary shall promulgate regulations establishing the requirements which must be met by an Indian tribe or tribal organization to be eligible for a grant under this section.</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45 CFR 301 Comprehensive Tribal CSE Programs</a:t>
            </a:r>
            <a:endParaRPr b="0" lang="en-US" sz="3600" spc="-1" strike="noStrike">
              <a:solidFill>
                <a:srgbClr val="f7d47d"/>
              </a:solidFill>
              <a:latin typeface="Arial"/>
            </a:endParaRPr>
          </a:p>
        </p:txBody>
      </p:sp>
      <p:sp>
        <p:nvSpPr>
          <p:cNvPr id="217" name="PlaceHolder 2"/>
          <p:cNvSpPr>
            <a:spLocks noGrp="1"/>
          </p:cNvSpPr>
          <p:nvPr>
            <p:ph/>
          </p:nvPr>
        </p:nvSpPr>
        <p:spPr>
          <a:xfrm>
            <a:off x="228600" y="1752120"/>
            <a:ext cx="7386480" cy="4497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interim final rule (published August 21, 2000) applies only to Tribes that currently operate comprehensive CSE programs.  It establishes requirements for direct federal funding under section 455(f) of the Act.</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o is Eligible to Apply?</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n Indian Tribe meeting the requirements of the rule with at least 100 children under the age of majority  as defined by Tribal law or code, in the population subject to the jurisdiction of Tribal court or administrative agency.</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228240"/>
            <a:ext cx="74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Requirements for Direct funding</a:t>
            </a:r>
            <a:endParaRPr b="0" lang="en-US" sz="3600" spc="-1" strike="noStrike">
              <a:solidFill>
                <a:srgbClr val="f7d47d"/>
              </a:solidFill>
              <a:latin typeface="Arial"/>
            </a:endParaRPr>
          </a:p>
        </p:txBody>
      </p:sp>
      <p:sp>
        <p:nvSpPr>
          <p:cNvPr id="221" name="PlaceHolder 2"/>
          <p:cNvSpPr>
            <a:spLocks noGrp="1"/>
          </p:cNvSpPr>
          <p:nvPr>
            <p:ph/>
          </p:nvPr>
        </p:nvSpPr>
        <p:spPr>
          <a:xfrm>
            <a:off x="304920" y="1752120"/>
            <a:ext cx="7386480" cy="44974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application must include:</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escription of the population subject to the jurisdiction of the Tribal court</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rocedures for accepting all applications and providing appropriate CSE services</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Requirements for Direct Funding</a:t>
            </a:r>
            <a:endParaRPr b="0" lang="en-US" sz="36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ssurance that due process rights of individuals will be protected</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dministrative and management procedures </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ssurance of safeguarding procedures</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Requirements for Direct Funding</a:t>
            </a:r>
            <a:endParaRPr b="0" lang="en-US" sz="3600" spc="-1" strike="noStrike">
              <a:solidFill>
                <a:srgbClr val="f7d47d"/>
              </a:solidFill>
              <a:latin typeface="Arial"/>
            </a:endParaRPr>
          </a:p>
        </p:txBody>
      </p:sp>
      <p:sp>
        <p:nvSpPr>
          <p:cNvPr id="225" name="PlaceHolder 2"/>
          <p:cNvSpPr>
            <a:spLocks noGrp="1"/>
          </p:cNvSpPr>
          <p:nvPr>
            <p:ph/>
          </p:nvPr>
        </p:nvSpPr>
        <p:spPr>
          <a:xfrm>
            <a:off x="228600" y="1752120"/>
            <a:ext cx="7386480" cy="44974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ssurance of maintenance of records </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opies of Tribal laws and regulations applicable to child support enforcement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rocedures for location of noncustodial parents</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Requirements for Direct Funding</a:t>
            </a:r>
            <a:endParaRPr b="0" lang="en-US" sz="3600" spc="-1" strike="noStrike">
              <a:solidFill>
                <a:srgbClr val="f7d47d"/>
              </a:solidFill>
              <a:latin typeface="Arial"/>
            </a:endParaRPr>
          </a:p>
        </p:txBody>
      </p:sp>
      <p:sp>
        <p:nvSpPr>
          <p:cNvPr id="227" name="PlaceHolder 2"/>
          <p:cNvSpPr>
            <a:spLocks noGrp="1"/>
          </p:cNvSpPr>
          <p:nvPr>
            <p:ph/>
          </p:nvPr>
        </p:nvSpPr>
        <p:spPr>
          <a:xfrm>
            <a:off x="228600" y="1828440"/>
            <a:ext cx="7386480" cy="44974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rocedures for establishment of paternity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Guidelines for the establishment and modification of support obligations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rocedures for income withholding</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Requirements for Direct Funding</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rocedures for distribution of child support collections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rocedures for intergovernmental case processing</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asonable performance target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child support enforcement program is a joint partnership involving federal, state, tribal, and local cooperative efforts.</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ribal CSE Program Funding</a:t>
            </a: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unding is based on the application</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unding on an annual basis</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ederal government provides 90% of the total approved budget</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ribal CSE Program Funding</a:t>
            </a:r>
            <a:endParaRPr b="0" lang="en-US" sz="4000" spc="-1" strike="noStrike">
              <a:solidFill>
                <a:srgbClr val="f7d47d"/>
              </a:solidFill>
              <a:latin typeface="Arial"/>
            </a:endParaRPr>
          </a:p>
        </p:txBody>
      </p:sp>
      <p:sp>
        <p:nvSpPr>
          <p:cNvPr id="23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ribes provide a 10% match</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re is a provision for a waiver of the 10% match</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Arial"/>
              </a:rPr>
              <a:t>Differences between Tribal IV-D and State IV-D Requirements</a:t>
            </a:r>
            <a:endParaRPr b="0" lang="en-US" sz="3200" spc="-1" strike="noStrike">
              <a:solidFill>
                <a:srgbClr val="f7d47d"/>
              </a:solidFill>
              <a:latin typeface="Arial"/>
            </a:endParaRPr>
          </a:p>
        </p:txBody>
      </p:sp>
      <p:sp>
        <p:nvSpPr>
          <p:cNvPr id="23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tribal rule has provisions for in-kind payments</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aternity is establishes by Tribal law, code, or custom</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Arial"/>
              </a:rPr>
              <a:t>Differences between Tribal IV-D State IV-D Requirements</a:t>
            </a:r>
            <a:endParaRPr b="0" lang="en-US" sz="3200" spc="-1" strike="noStrike">
              <a:solidFill>
                <a:srgbClr val="f7d47d"/>
              </a:solidFill>
              <a:latin typeface="Arial"/>
            </a:endParaRPr>
          </a:p>
        </p:txBody>
      </p:sp>
      <p:sp>
        <p:nvSpPr>
          <p:cNvPr id="23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ncome is subject to withholding if the NCP is one month in arrears.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r activities directly related to IV-D program activities, certain staff expenses are allowable:</a:t>
            </a:r>
            <a:endParaRPr b="0" lang="en-US" sz="3200" spc="-1" strike="noStrike">
              <a:solidFill>
                <a:srgbClr val="2f1311"/>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ribal Chief executives and their staff</a:t>
            </a:r>
            <a:endParaRPr b="0" lang="en-US" sz="2800" spc="-1" strike="noStrike">
              <a:solidFill>
                <a:srgbClr val="2f1311"/>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ribal Court judges and their staff</a:t>
            </a:r>
            <a:endParaRPr b="0" lang="en-US" sz="28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d47d"/>
              </a:solidFill>
              <a:latin typeface="Arial"/>
            </a:endParaRPr>
          </a:p>
        </p:txBody>
      </p:sp>
      <p:sp>
        <p:nvSpPr>
          <p:cNvPr id="23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aige Biava, Policy Specialist</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dministration for Children and Families</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Office of Child Support Enforcement</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ivision of Policy</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MAIL:  phbiava@acf.hhs.gov</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rogram Goals</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o locate noncustodial parents, establish paternity, establish and enforce child support orders and collect child support payments from parents who are legally obligated to pay</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o ensure that both parents financially support their children</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o recover TANF expenditures</a:t>
            </a:r>
            <a:endParaRPr b="0" lang="en-US" sz="2800" spc="-1" strike="noStrike">
              <a:solidFill>
                <a:srgbClr val="2f1311"/>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uthorizing Legislation</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itle IV-D of the Social Security Act</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tatute:  42 USC 651-669</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gulations:  45 CFR 301-310</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ersonal Responsibility and Work Opportunity Reconciliation Act of 1996 (PRWORA)</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egislative History of the Program</a:t>
            </a:r>
            <a:endParaRPr b="0" lang="en-US" sz="36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child support enforcement (CSE) program was established in 1975</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reated the federal CSE program</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quired states to establish CSE office</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rovided federal reimbursement</a:t>
            </a:r>
            <a:endParaRPr b="0" lang="en-US" sz="3200" spc="-1" strike="noStrike">
              <a:solidFill>
                <a:srgbClr val="2f1311"/>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egislative History of the Program</a:t>
            </a:r>
            <a:endParaRPr b="0" lang="en-US" sz="36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hild Support Enforcement Amendments of 1984</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Mandatory enforcement practices</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ederal financial participation and audit provisions</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nterstate enforcement</a:t>
            </a:r>
            <a:endParaRPr b="0" lang="en-US" sz="3200" spc="-1" strike="noStrike">
              <a:solidFill>
                <a:srgbClr val="2f1311"/>
              </a:solidFill>
              <a:latin typeface="Arial"/>
            </a:endParaRPr>
          </a:p>
          <a:p>
            <a:pPr marL="343080" indent="-34308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qual services for AFDC and Non-AFDC familie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egislative History of the Program</a:t>
            </a:r>
            <a:endParaRPr b="0" lang="en-US" sz="36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amily Support Act of 1988</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Guidelines for child support awards</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stablishment of paternity</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quirement for prompt state response</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equirement for automated tracking and monitoring</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egislative History of the Program</a:t>
            </a:r>
            <a:endParaRPr b="0" lang="en-US" sz="36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Omnibus Budget Reconciliation Act of 1993 (OBRA)</a:t>
            </a:r>
            <a:endParaRPr b="0" lang="en-US" sz="2800" spc="-1" strike="noStrike">
              <a:solidFill>
                <a:srgbClr val="2f1311"/>
              </a:solidFill>
              <a:latin typeface="Arial"/>
            </a:endParaRPr>
          </a:p>
          <a:p>
            <a:pPr marL="343080" indent="-343080">
              <a:lnSpc>
                <a:spcPct val="90000"/>
              </a:lnSpc>
              <a:spcBef>
                <a:spcPts val="700"/>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Increased paternity establishment percentages</a:t>
            </a:r>
            <a:endParaRPr b="0" lang="en-US" sz="2800" spc="-1" strike="noStrike">
              <a:solidFill>
                <a:srgbClr val="2f1311"/>
              </a:solidFill>
              <a:latin typeface="Arial"/>
            </a:endParaRPr>
          </a:p>
          <a:p>
            <a:pPr marL="343080" indent="-343080">
              <a:lnSpc>
                <a:spcPct val="90000"/>
              </a:lnSpc>
              <a:spcBef>
                <a:spcPts val="700"/>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tates had to adopt laws requiring civil procedures to voluntarily acknowledge paternity</a:t>
            </a:r>
            <a:endParaRPr b="0" lang="en-US" sz="2800" spc="-1" strike="noStrike">
              <a:solidFill>
                <a:srgbClr val="2f1311"/>
              </a:solidFill>
              <a:latin typeface="Arial"/>
            </a:endParaRPr>
          </a:p>
          <a:p>
            <a:pPr marL="343080" indent="-343080">
              <a:lnSpc>
                <a:spcPct val="90000"/>
              </a:lnSpc>
              <a:spcBef>
                <a:spcPts val="700"/>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tates had to adopt laws requiring compliance regarding health insurance and employers</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egislative History of the Program</a:t>
            </a:r>
            <a:endParaRPr b="0" lang="en-US" sz="36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ersonal Responsibility and Work Opportunity Reconciliation Act of 1996</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gned into law August 22, 1996</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rovision that directly affects Tribes</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Section 454(33) as amended by the Balanced Budget Act of 1997</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6:13:05Z</dcterms:created>
  <dc:creator>phbiava</dc:creator>
  <dc:description/>
  <dc:language>en-US</dc:language>
  <cp:lastModifiedBy>Kate Christnot</cp:lastModifiedBy>
  <dcterms:modified xsi:type="dcterms:W3CDTF">2004-01-15T16:11:13Z</dcterms:modified>
  <cp:revision>7</cp:revision>
  <dc:subject/>
  <dc:title>Introduction to Tribal Child Support Enforcement Progr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41309432</vt:r8>
  </property>
  <property fmtid="{D5CDD505-2E9C-101B-9397-08002B2CF9AE}" pid="3" name="_AuthorEmail">
    <vt:lpwstr>RBressie@dshs.wa.gov</vt:lpwstr>
  </property>
  <property fmtid="{D5CDD505-2E9C-101B-9397-08002B2CF9AE}" pid="4" name="_AuthorEmailDisplayName">
    <vt:lpwstr>Bressieux, Rene' (DSHS/DCS)</vt:lpwstr>
  </property>
  <property fmtid="{D5CDD505-2E9C-101B-9397-08002B2CF9AE}" pid="5" name="_EmailSubject">
    <vt:lpwstr>DCS Tribal Update 2/25/04</vt:lpwstr>
  </property>
  <property fmtid="{D5CDD505-2E9C-101B-9397-08002B2CF9AE}" pid="6" name="_PreviousAdHocReviewCycleID">
    <vt:r8>-1103367756</vt:r8>
  </property>
</Properties>
</file>