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E8E-5BA9-45D7-80D3-318581C9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5DC-F05F-4989-B63B-4FF1F079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41A-A98B-48E3-A9A9-8528CEA5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099-7D0E-44EB-BBFC-9984A073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196E-90D3-4954-99F7-81351A6E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6B1A-1A65-443E-B3A8-47701B0C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D040-DB62-499A-8112-E0228320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D403-125C-46D7-BA07-438E6A41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5234-E997-47DD-90C7-36A9FC38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3C25-1BEE-43C4-A1FA-F17947F6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07DE-19CB-453B-BBE3-005A0C64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5C6-A37E-49BD-8615-8F9CC70F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E644-B9A6-432C-AEF9-B21970BA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02CD-B030-4A87-AE23-ADBAC69B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838A-444E-4335-87DE-F2F707A4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8C36-85E1-4547-8ABA-F68B2378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DA8F-B02C-48B3-B9D1-FB517C22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AA1-C054-4921-85BF-80CAAD96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5CD-93CD-491D-B09D-1C1235D3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028-6DA2-456F-A5D1-9C695A02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D7E-842A-4814-82CC-620608F2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64E-9C32-4417-A0B6-73923485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DE0-E032-4A59-96AB-8BFA655C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F25-D954-4A25-A1FF-51DC28DC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B866-1065-4759-80C1-58F8BB5BED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1E45-2766-4E3A-820E-34FFFE4C6B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ANF, Child Support and Employment Program Partnership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moting family self-sufficiency through coordinated service delive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 Servi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each program aware of the services available under the other program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so, how is that information shared with client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 referrals made to other programs, and if so, who is responsible for follow-up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ximizing Resour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 programs providing timely and/or similar servic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so, which program is in a position to provide the most comprehensive servic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programs pool resources and personnel to achieve shared-goal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eting Program Requirem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the actions of one program affect the responsibilities and performance of another progra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programs ensure they support the responsibilities and performance of another progra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MMUNICATION AND INFORMATION-SHA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y is information-sharing important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accurately identify the legal custody of children and the services needed by CP’s, NCP’s and relative care-givers so no one falls “between the cracks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accurately track court-ordered and required program activities for clients that are receiving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identify fraudulent activ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formation-Sharing continued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mpt assessment and opening of cases to ensure timely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aring of information and providing education on the services a client may qualify for under other progra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oint-efforts to support family nee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muni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es each program identify a “case” (parent, child, relative)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es each program make, and track, referrals to other program (is their a central point of contact, by case number)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input from the other programs requested when taking action on a case (how is this accomplished)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IS WORKING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st Practi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-locating staff in the same building or in close proxim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aming of the respective program staff that works the same caselo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ating a Coordinator Position to facilitate IV-A/IV-D lin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oss-training and shared-training to facilitate a better understanding of the respective progra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st Practi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ation of a team, with representatives from each program,  to review the shared cases and determine the best course of action for the fami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ual and systems development to expedite referrals and case-management activ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THE PURPOSE OF EACH OF THESE PROGRAM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OTHER PROGRAMS PLAY A PART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ents with Special Nee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clients with shared- needs that the programs can not addres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Physical disabil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Alcohol and Dr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Mental and Emotional Healt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Domestic Viol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ecial Nee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State/Tribal programs can address these need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o qualifies for servic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you create better relationships with these program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a referral is made, how does he referring agency inform other IV-A/IV-D/Employment programs of the referra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itle IV-A:  Temporary Assistance to Needy Families (TANF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provide assistance to families so that children may be cared for in their own, or a relatives’ home, by promoting job preparation and work, and by encouraging the formation and maintenance of two-parent famil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itle IV-D:  Child Support Program (CSP)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ensure that both parents financially (and emotionally) support their child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cus on obtaining financial support from  the non-custodial parent (NCP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mployment and DOL job program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make job search, work activities, including education, skills and job-readiness training, available to clients who require assista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IS THE COMMON GOAL OF TANF, CSP, AND EMPLOYMENT/JOB PROGRAM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-63,97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113,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mon 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mpowering families to achieve self-sufficiency through regular employment, and when necessary, paying child-suppor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ombination of regular job earnings, and regular child support payments, helps low-income families to become, and remain, self-suffici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mon 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ducing dependency on government benefits, which allows governments to provide benefits to other families and children in ne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viding services leading to self-sufficiency through education, job search assistance, job-skill training and education and support services (transportation, childcare, counseling, medical insuranc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y is it important that IV-A and IV-D have good partnerships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ensure families receive the optimum benefits from all the services that are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maximize resources by ensuring programs are not providing duplicate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ensure the programs meet heir respective objectives efficiently and effective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01:45:33Z</dcterms:created>
  <dc:creator>ACF</dc:creator>
  <dc:description/>
  <dc:language>en-US</dc:language>
  <cp:lastModifiedBy>Kate Christnot</cp:lastModifiedBy>
  <dcterms:modified xsi:type="dcterms:W3CDTF">2004-01-15T16:15:15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81318290</vt:r8>
  </property>
  <property fmtid="{D5CDD505-2E9C-101B-9397-08002B2CF9AE}" pid="3" name="_AuthorEmail">
    <vt:lpwstr>RBressie@dshs.wa.gov</vt:lpwstr>
  </property>
  <property fmtid="{D5CDD505-2E9C-101B-9397-08002B2CF9AE}" pid="4" name="_AuthorEmailDisplayName">
    <vt:lpwstr>Bressieux, Rene' (DSHS/DCS)</vt:lpwstr>
  </property>
  <property fmtid="{D5CDD505-2E9C-101B-9397-08002B2CF9AE}" pid="5" name="_EmailSubject">
    <vt:lpwstr>DCS Tribal Update 2/25/04</vt:lpwstr>
  </property>
  <property fmtid="{D5CDD505-2E9C-101B-9397-08002B2CF9AE}" pid="6" name="_PreviousAdHocReviewCycleID">
    <vt:r8>1579885646</vt:r8>
  </property>
</Properties>
</file>