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CC2-0C13-4183-96E8-CDBADB48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12E-77D9-4FB8-8560-FD4154BF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B71-7B02-41D5-91B4-8B0BFF48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734-8429-4219-AEEA-07485A5F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985D-50BE-4D0F-8857-D7A51645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1AD8-34DB-46ED-85F2-B04BB9A2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9263-FCB3-4D02-82C8-36CD9F11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0576-B4DD-48F0-9871-0DB27F5B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7D6D-E504-4A7F-A67A-A717DA06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957D-6BFF-4020-8A65-1B5E5846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8E0A-093E-4C8B-AACA-2650C350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911-0099-49A4-8AAF-BAEFB25D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9F6A-ED7C-4B90-BBE8-36EF7090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E316-AE89-49C3-8DE6-7CF3AF87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1ABC-4927-4681-8539-50F76E2A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AA44-6224-4A05-A6D7-315C4B95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3619-9E32-4838-97EE-416006E1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28C-05A0-458A-BC13-6BD25C67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E19-EC3C-4945-A589-62EBD1F1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383-E3B4-420B-81F1-1AFE8737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7EB-6C57-426C-A1AA-A2E7D125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D6B-9AD9-4D5F-8CBD-419E5D2E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13C-0AFF-48D9-B27D-6B1A2E52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719-08EE-41C5-AF1F-7EA0467A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0E42-06BC-4F19-8A63-51ED4177E7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1AAA-6F3D-4970-8D2F-6E5E7BB631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ANF, Child Support and Employment Program Partnership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moting family self-sufficiency through coordinated service delive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 Servi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each program aware of the services available under the other program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so, how is that information shared with client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 referrals made to other programs, and if so, who is responsible for follow-up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ximizing Resour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 programs providing timely and/or similar servic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so, which program is in a position to provide the most comprehensive servic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programs pool resources and personnel to achieve shared-goal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eting Program Requirem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the actions of one program affect the responsibilities and performance of another progra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programs ensure they support the responsibilities and performance of another progra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MMUNICATION AND INFORMATION-SHA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y is information-sharing important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accurately identify the legal custody of children and the services needed by CP’s, NCP’s and relative care-givers so no one falls “between the cracks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accurately track court-ordered and required program activities for clients that are receiving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identify fraudulent activ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formation-Sharing continued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mpt assessment and opening of cases to ensure timely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aring of information and providing education on the services a client may qualify for under other progra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oint-efforts to support family nee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muni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es each program identify a “case” (parent, child, relative)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es each program make, and track, referrals to other program (is their a central point of contact, by case number)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input from the other programs requested when taking action on a case (how is this accomplished)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IS WORKING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st Practi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-locating staff in the same building or in close proxim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aming of the respective program staff that works the same caselo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ating a Coordinator Position to facilitate IV-A/IV-D lin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oss-training and shared-training to facilitate a better understanding of the respective progra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st Practi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ation of a team, with representatives from each program,  to review the shared cases and determine the best course of action for the fami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ual and systems development to expedite referrals and case-management activ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THE PURPOSE OF EACH OF THESE PROGRAM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OTHER PROGRAMS PLAY A PART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ents with Special Nee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clients with shared- needs that the programs can not addres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Physical disabil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Alcohol and Dr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Mental and Emotional Healt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Domestic Viol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ecial Nee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State/Tribal programs can address these need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o qualifies for servic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you create better relationships with these program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a referral is made, how does he referring agency inform other IV-A/IV-D/Employment programs of the referra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itle IV-A:  Temporary Assistance to Needy Families (TANF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provide assistance to families so that children may be cared for in their own, or a relatives’ home, by promoting job preparation and work, and by encouraging the formation and maintenance of two-parent famil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itle IV-D:  Child Support Program (CSP)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ensure that both parents financially (and emotionally) support their child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cus on obtaining financial support from  the non-custodial parent (NCP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mployment and DOL job program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make job search, work activities, including education, skills and job-readiness training, available to clients who require assista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IS THE COMMON GOAL OF TANF, CSP, AND EMPLOYMENT/JOB PROGRAM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mon 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mpowering families to achieve self-sufficiency through regular employment, and when necessary, paying child-suppor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ombination of regular job earnings, and regular child support payments, helps low-income families to become, and remain, self-suffici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mon 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ducing dependency on government benefits, which allows governments to provide benefits to other families and children in ne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viding services leading to self-sufficiency through education, job search assistance, job-skill training and education and support services (transportation, childcare, counseling, medical insuranc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y is it important that IV-A and IV-D have good partnerships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ensure families receive the optimum benefits from all the services that are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maximize resources by ensuring programs are not providing duplicate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ensure the programs meet heir respective objectives efficiently and effective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01:45:33Z</dcterms:created>
  <dc:creator>ACF</dc:creator>
  <dc:description/>
  <dc:language>en-US</dc:language>
  <cp:lastModifiedBy>Kate Christnot</cp:lastModifiedBy>
  <dcterms:modified xsi:type="dcterms:W3CDTF">2004-01-15T16:15:15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81318290</vt:r8>
  </property>
  <property fmtid="{D5CDD505-2E9C-101B-9397-08002B2CF9AE}" pid="3" name="_AuthorEmail">
    <vt:lpwstr>RBressie@dshs.wa.gov</vt:lpwstr>
  </property>
  <property fmtid="{D5CDD505-2E9C-101B-9397-08002B2CF9AE}" pid="4" name="_AuthorEmailDisplayName">
    <vt:lpwstr>Bressieux, Rene' (DSHS/DCS)</vt:lpwstr>
  </property>
  <property fmtid="{D5CDD505-2E9C-101B-9397-08002B2CF9AE}" pid="5" name="_EmailSubject">
    <vt:lpwstr>DCS Tribal Update 2/25/04</vt:lpwstr>
  </property>
  <property fmtid="{D5CDD505-2E9C-101B-9397-08002B2CF9AE}" pid="6" name="_PreviousAdHocReviewCycleID">
    <vt:r8>1579885646</vt:r8>
  </property>
</Properties>
</file>