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B2D-E4F6-4CDF-9765-CB728E0E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F06-358A-4234-AE90-963A186F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792-6C52-4ABC-B3BA-261F9E3D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4B3-B67E-43A8-BAB0-2BB45BAB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8DC9-C8EA-4A46-BFA2-7946E183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F273-5D3A-4AF6-A38A-D2453FC3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374C-3262-4FD3-BE87-0DC1231B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752E-2B65-4F16-B7F7-CB7D8391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25A3-D7B2-4246-BB1F-7F7520E3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1669-90B7-4D35-80E7-7142BBB4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0B48-0744-4288-A6A1-B9D4891E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834-814F-4435-87A0-713AA65E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3287-2295-4CBA-8977-6E09074A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A939-AE3E-44FF-A3CC-2593B663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72C0-DF87-46AF-B1A6-6AD43468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50A4-8C8D-4471-B6BB-FC3E5149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768A-32AE-4B94-9529-872282BC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1DB-7510-48A6-9718-DEAA3797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711-3C3A-4F0F-AD3E-86F51E32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D7F-54BB-45AE-B30F-A77FD2B6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CF5-4290-4FED-AEAE-1419A8AB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574-64E5-4EAD-B288-8C185474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793-B188-4D99-91F6-578090BB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271-AFE3-4D30-8892-B0D47586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F20F-9CC1-45A6-AC45-87A26972522C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837D-4B8D-4BD4-9A67-7C304CB15483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sn00278a.wav" TargetMode="External"/><Relationship Id="rId3" Type="http://schemas.microsoft.com/office/2007/relationships/media" Target="file:///tmp/home/.config/libreoffice/4/user/gallery/sn00278a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ribal Child Support Enforcement…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Why Bother?</a:t>
            </a:r>
            <a:endParaRPr b="0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ational Tribal Child Support Association</a:t>
            </a: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rect Federal Fun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late 2003 or early 2004, the Final Regulations will be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r Tribe does not have an existing child support program, this funding will include start-up costs to assist your Tribe in establishing your own tribal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17668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regulations come with the fund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4920" y="2819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program must be able to meet 5 primary manda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of Pater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forcement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ification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ion of Absent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2388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Tribal Child Support Enforcement Program           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just a Collection Agenc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2640" y="39625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 to assist families with Tribal children obtain and maintain self-sufficiency, provide information, education and quality customer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477120" y="457200"/>
            <a:ext cx="2411280" cy="2359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t’s for the Children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43400" y="236232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child has a right to know who their father i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child has a right to be financially and emotionally supported by both par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22740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More Informatio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ease attend the other workshops offered at this conferenc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act on Tribal Infrastructure and Preparation for Fundi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essing Tribal Infra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bal Child Support 1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nt Mana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V-A / IV-D Collabo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lying for Direct Fu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bal Child Support: Roundtable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5120" y="129492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act Informatio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ry Sweet / Chickasaw 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80-310-6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tha Renville / Sisseton-Wahpe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5-698-71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mi Lorbecke / Chickasaw 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18-272-69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e Christnot / OC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2-401-484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286000" cy="2073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9903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ll About the Children!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Child Support Programs assist families in obtaining and maintaining self-sufficiency throug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rnity Establish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and Enforcement of child support ord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668680" cy="419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094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861048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6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99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1996 welfare reform included many changes to the child support ar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st important change was the inclusion of funding available to Tribes to establish and operate their own child support progra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0" y="5105520"/>
            <a:ext cx="1359000" cy="1433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1430280" cy="15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114800" y="5105520"/>
            <a:ext cx="1371600" cy="1447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990360"/>
            <a:ext cx="5867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ould You Want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Your Own Progra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children often do not receive adequate or fair child support servic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 often do not receive adequate or fair servic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ng your own program gives your government jurisdiction in child support related issu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your own program means it will be culturally sensitive and easily accessible to your Tribal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7701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560" y="9144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nefi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many benefits to having your own Tribal Child Support Agency (TCS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it #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ernity Establishment ensures inheritance rights of children and accurate Tribal enroll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it #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bal Court Jurisdiction allows more authority and flexibility in how cases are hand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914400"/>
            <a:ext cx="6096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nefits (cont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it #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bes have the authority to withhold from Tribal enterprises and/or per capita pay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it #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d financial responsibility of parents means less reliance on Tribal program fu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1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Greatest Benefits are for the Childr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22856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s and daughters will know who their father i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ren will be assured food in their stomachs and a warm bed to sleep in at nigh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children deserve to b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financially and emotionally     supported by both par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248520" y="4511520"/>
            <a:ext cx="2666880" cy="2346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6104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542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86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9144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unding Sour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905120"/>
            <a:ext cx="746784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Health and Human Services (DH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2971800"/>
            <a:ext cx="701028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on for Children and Families (AC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114800"/>
            <a:ext cx="647676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Child Support Enforcement (OC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2514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0292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funding source for Tribal Child Support Enforcement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772400" y="4191120"/>
            <a:ext cx="1050840" cy="238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1050840" cy="238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66996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es my Tribe Qualify for Fund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Direct Interim Funding available if your Tribe is currently operating their own child support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why would we want federal dolla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expand or improve your program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ing Tribal IV-D status provides more opportunities for resour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e Christnot</cp:lastModifiedBy>
  <dcterms:modified xsi:type="dcterms:W3CDTF">2003-10-15T19:28:23Z</dcterms:modified>
  <cp:revision>6</cp:revision>
  <dc:subject/>
  <dc:title>Tribal Child Support Enforcement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00912209</vt:r8>
  </property>
  <property fmtid="{D5CDD505-2E9C-101B-9397-08002B2CF9AE}" pid="3" name="_AuthorEmail">
    <vt:lpwstr>RBressie@dshs.wa.gov</vt:lpwstr>
  </property>
  <property fmtid="{D5CDD505-2E9C-101B-9397-08002B2CF9AE}" pid="4" name="_AuthorEmailDisplayName">
    <vt:lpwstr>Bressieux, Rene' (DSHS/DCS)</vt:lpwstr>
  </property>
  <property fmtid="{D5CDD505-2E9C-101B-9397-08002B2CF9AE}" pid="5" name="_EmailSubject">
    <vt:lpwstr>DCS Tribal Update 2/25/04</vt:lpwstr>
  </property>
  <property fmtid="{D5CDD505-2E9C-101B-9397-08002B2CF9AE}" pid="6" name="_PreviousAdHocReviewCycleID">
    <vt:r8>-2100731226</vt:r8>
  </property>
</Properties>
</file>