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BD2-EF38-4040-9D45-F4DF9DBA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5A1-5E25-46DC-9A59-8B28F9D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B11-6202-4B7B-A3C6-9E655A85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4FB-062C-4F15-BC28-E4F4932D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F74-AC59-4576-803B-D84337E0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A9DD-159A-4913-8944-275CABE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0AA8-9E14-4EFF-A691-01C55312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471-BD33-4782-93AD-5381EF7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42D5-C94C-4663-A1A4-BC87D3F3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09AF-7045-4A18-BE7C-5120A277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438C-B25C-4A9F-BC30-EDEC1EC6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E3E-366B-42AB-B1A4-1126188B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29D-6D94-46A7-A459-F571ACBD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F019-FA57-4E4E-85EF-1D0EEB6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D42E-530D-4C4C-AB41-B7626F2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6611-5433-4DC6-946D-C8279FD8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7F70-B187-4FBC-A1DC-069F5BB1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AA9-4D84-49A1-9BB2-7BA54F87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256-3250-4693-8B7A-4A05E7D7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967-9007-4319-99F2-2DE3B18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B60-D5CC-4DCC-930D-B05D95A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865-5851-48F0-8601-FE0DC1DB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298-7D2F-4248-9701-FCDE061C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3AD-7F14-41F7-9E42-C4F179B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2E8D-5B73-4840-A9EB-9D9CAC016F3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C45A-78DB-46E0-B799-74F93A237556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sn00278a.wav" TargetMode="External"/><Relationship Id="rId3" Type="http://schemas.microsoft.com/office/2007/relationships/media" Target="file:///tmp/home/.config/libreoffice/4/user/gallery/sn00278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ribal Child Support Enforcement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Why Bother?</a:t>
            </a:r>
            <a:endParaRPr b="0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ional Tribal Child Support Association</a:t>
            </a: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rect Federal F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late 2003 or early 2004, the Final Regulations will be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r Tribe does not have an existing child support program, this funding will include start-up costs to assist your Tribe in establishing your own tribal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7668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regulations come with the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program must be able to meet 5 primary manda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Pater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forcement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ification of Child Support Or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 of Absent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ribal Child Support Enforcement Program           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just a Collection Agen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3962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 to assist families with Tribal children obtain and maintain self-sufficiency, provide information, education and quality customer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2411280" cy="2359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t’s for the Children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43400" y="23623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know who their father i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child has a right to be financially and emotionally supported by both par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2740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More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e attend the other workshops offered at this conferen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act on Tribal Infrastructure and Preparation for Fund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ing Tribal Infra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al Child Support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t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-A / IV-D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ying for Direct Fu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al Child Support: Roundtable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129492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act Informatio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ry Sweet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80-310-60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tha Renville / Sisseton-Wahpe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5-698-71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i Lorbecke / Chickasaw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18-272-69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e Christnot / OC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2-401-48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28600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9903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ll About the Children!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 Support Programs assist families in obtaining and maintaining self-sufficiency throug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rnity Establ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ment and Enforcement of child support ord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66868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09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86104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6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99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1996 welfare reform included many changes to the child support a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st important change was the inclusion of funding available to Tribes to establish and operate their own child support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0" y="5105520"/>
            <a:ext cx="1359000" cy="1433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1430280" cy="15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14800" y="5105520"/>
            <a:ext cx="137160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990360"/>
            <a:ext cx="5867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ould You Want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Your Own Progr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bal children often do not receive adequate or fair child support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often do not receive adequate or fair servi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ng your own program gives your government jurisdiction in child support related issu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your own program means it will be culturally sensitive and easily accessible to your Tribal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7701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560" y="9144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many benefits to having your own Tribal Child Support Agency (TCS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ernity Establishment ensures inheritance rights of children and accurate Tribal enroll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al Court Jurisdiction allows more authority and flexibility in how cases are hand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6096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(cont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bes have the authority to withhold from Tribal enterprises and/or per capita pay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 #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financial responsibility of parents means less reliance on Tribal program fu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Greatest Benefits are for the Child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and daughters will know who their father 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will be assured food in their stomachs and a warm bed to sleep in at nigh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hildren deserve to b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financially and emotionally     supported by both par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248520" y="4511520"/>
            <a:ext cx="2666880" cy="2346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6104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54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86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ding Sou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905120"/>
            <a:ext cx="746784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Health and Human Services (DH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2971800"/>
            <a:ext cx="701028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for Children and Families (AC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114800"/>
            <a:ext cx="6476760" cy="459720"/>
          </a:xfrm>
          <a:prstGeom prst="rect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Child Support Enforcement (OC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2514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029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funding source for Tribal Child Support Enforcement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7240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1050840" cy="238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66996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es my Tribe Qualify for Fund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Direct Interim Funding available if your Tribe is currently operating their own child support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why would we want federal dolla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xpand or improve your program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ing Tribal IV-D status provides more opportunities for resour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 Christnot</cp:lastModifiedBy>
  <dcterms:modified xsi:type="dcterms:W3CDTF">2003-10-15T19:28:23Z</dcterms:modified>
  <cp:revision>6</cp:revision>
  <dc:subject/>
  <dc:title>Tribal Child Support Enforcement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0912209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-2100731226</vt:r8>
  </property>
</Properties>
</file>